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8.wmf" ContentType="image/x-wmf"/>
  <Override PartName="/ppt/media/image11.wmf" ContentType="image/x-wmf"/>
  <Override PartName="/ppt/media/image17.jpeg" ContentType="image/jpeg"/>
  <Override PartName="/ppt/media/image18.jpeg" ContentType="image/jpeg"/>
  <Override PartName="/ppt/media/image16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2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6.jpeg" ContentType="image/jpeg"/>
  <Override PartName="/ppt/media/image4.png" ContentType="image/png"/>
  <Override PartName="/ppt/media/image12.wmf" ContentType="image/x-wmf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243.xml.rels" ContentType="application/vnd.openxmlformats-package.relationships+xml"/>
  <Override PartName="/ppt/slides/_rels/slide19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76.xml.rels" ContentType="application/vnd.openxmlformats-package.relationships+xml"/>
  <Override PartName="/ppt/slides/_rels/slide177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22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22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241.xml.rels" ContentType="application/vnd.openxmlformats-package.relationships+xml"/>
  <Override PartName="/ppt/slides/_rels/slide61.xml.rels" ContentType="application/vnd.openxmlformats-package.relationships+xml"/>
  <Override PartName="/ppt/slides/_rels/slide49.xml.rels" ContentType="application/vnd.openxmlformats-package.relationships+xml"/>
  <Override PartName="/ppt/slides/_rels/slide22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10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11.xml.rels" ContentType="application/vnd.openxmlformats-package.relationships+xml"/>
  <Override PartName="/ppt/slides/_rels/slide242.xml.rels" ContentType="application/vnd.openxmlformats-package.relationships+xml"/>
  <Override PartName="/ppt/slides/_rels/slide62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217.xml.rels" ContentType="application/vnd.openxmlformats-package.relationships+xml"/>
  <Override PartName="/ppt/slides/_rels/slide114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230.xml.rels" ContentType="application/vnd.openxmlformats-package.relationships+xml"/>
  <Override PartName="/ppt/slides/_rels/slide51.xml.rels" ContentType="application/vnd.openxmlformats-package.relationships+xml"/>
  <Override PartName="/ppt/slides/_rels/slide151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211.xml.rels" ContentType="application/vnd.openxmlformats-package.relationships+xml"/>
  <Override PartName="/ppt/slides/_rels/slide31.xml.rels" ContentType="application/vnd.openxmlformats-package.relationships+xml"/>
  <Override PartName="/ppt/slides/_rels/slide159.xml.rels" ContentType="application/vnd.openxmlformats-package.relationships+xml"/>
  <Override PartName="/ppt/slides/_rels/slide204.xml.rels" ContentType="application/vnd.openxmlformats-package.relationships+xml"/>
  <Override PartName="/ppt/slides/_rels/slide196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188.xml.rels" ContentType="application/vnd.openxmlformats-package.relationships+xml"/>
  <Override PartName="/ppt/slides/_rels/slide16.xml.rels" ContentType="application/vnd.openxmlformats-package.relationships+xml"/>
  <Override PartName="/ppt/slides/_rels/slide222.xml.rels" ContentType="application/vnd.openxmlformats-package.relationships+xml"/>
  <Override PartName="/ppt/slides/_rels/slide42.xml.rels" ContentType="application/vnd.openxmlformats-package.relationships+xml"/>
  <Override PartName="/ppt/slides/_rels/slide169.xml.rels" ContentType="application/vnd.openxmlformats-package.relationships+xml"/>
  <Override PartName="/ppt/slides/_rels/slide221.xml.rels" ContentType="application/vnd.openxmlformats-package.relationships+xml"/>
  <Override PartName="/ppt/slides/_rels/slide41.xml.rels" ContentType="application/vnd.openxmlformats-package.relationships+xml"/>
  <Override PartName="/ppt/slides/_rels/slide206.xml.rels" ContentType="application/vnd.openxmlformats-package.relationships+xml"/>
  <Override PartName="/ppt/slides/_rels/slide150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99.xml.rels" ContentType="application/vnd.openxmlformats-package.relationships+xml"/>
  <Override PartName="/ppt/slides/_rels/slide207.xml.rels" ContentType="application/vnd.openxmlformats-package.relationships+xml"/>
  <Override PartName="/ppt/slides/_rels/slide27.xml.rels" ContentType="application/vnd.openxmlformats-package.relationships+xml"/>
  <Override PartName="/ppt/slides/_rels/slide223.xml.rels" ContentType="application/vnd.openxmlformats-package.relationships+xml"/>
  <Override PartName="/ppt/slides/_rels/slide43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201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56.xml.rels" ContentType="application/vnd.openxmlformats-package.relationships+xml"/>
  <Override PartName="/ppt/slides/_rels/slide236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37.xml.rels" ContentType="application/vnd.openxmlformats-package.relationships+xml"/>
  <Override PartName="/ppt/slides/_rels/slide1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57.xml.rels" ContentType="application/vnd.openxmlformats-package.relationships+xml"/>
  <Override PartName="/ppt/slides/_rels/slide237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54.xml.rels" ContentType="application/vnd.openxmlformats-package.relationships+xml"/>
  <Override PartName="/ppt/slides/_rels/slide3.xml.rels" ContentType="application/vnd.openxmlformats-package.relationships+xml"/>
  <Override PartName="/ppt/slides/_rels/slide160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46.xml.rels" ContentType="application/vnd.openxmlformats-package.relationships+xml"/>
  <Override PartName="/ppt/slides/_rels/slide190.xml.rels" ContentType="application/vnd.openxmlformats-package.relationships+xml"/>
  <Override PartName="/ppt/slides/_rels/slide18.xml.rels" ContentType="application/vnd.openxmlformats-package.relationships+xml"/>
  <Override PartName="/ppt/slides/_rels/slide167.xml.rels" ContentType="application/vnd.openxmlformats-package.relationships+xml"/>
  <Override PartName="/ppt/slides/_rels/slide170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72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47.xml.rels" ContentType="application/vnd.openxmlformats-package.relationships+xml"/>
  <Override PartName="/ppt/slides/_rels/slide191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55.xml.rels" ContentType="application/vnd.openxmlformats-package.relationships+xml"/>
  <Override PartName="/ppt/slides/_rels/slide171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67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79.xml.rels" ContentType="application/vnd.openxmlformats-package.relationships+xml"/>
  <Override PartName="/ppt/slides/_rels/slide85.xml.rels" ContentType="application/vnd.openxmlformats-package.relationships+xml"/>
  <Override PartName="/ppt/slides/_rels/slide162.xml.rels" ContentType="application/vnd.openxmlformats-package.relationships+xml"/>
  <Override PartName="/ppt/slides/_rels/slide118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24.xml.rels" ContentType="application/vnd.openxmlformats-package.relationships+xml"/>
  <Override PartName="/ppt/slides/_rels/slide4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20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149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57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52.xml.rels" ContentType="application/vnd.openxmlformats-package.relationships+xml"/>
  <Override PartName="/ppt/slides/_rels/slide232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54.xml.rels" ContentType="application/vnd.openxmlformats-package.relationships+xml"/>
  <Override PartName="/ppt/slides/_rels/slide234.xml.rels" ContentType="application/vnd.openxmlformats-package.relationships+xml"/>
  <Override PartName="/ppt/slides/_rels/slide102.xml.rels" ContentType="application/vnd.openxmlformats-package.relationships+xml"/>
  <Override PartName="/ppt/slides/_rels/slide205.xml.rels" ContentType="application/vnd.openxmlformats-package.relationships+xml"/>
  <Override PartName="/ppt/slides/_rels/slide197.xml.rels" ContentType="application/vnd.openxmlformats-package.relationships+xml"/>
  <Override PartName="/ppt/slides/_rels/slide25.xml.rels" ContentType="application/vnd.openxmlformats-package.relationships+xml"/>
  <Override PartName="/ppt/slides/_rels/slide218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240.xml.rels" ContentType="application/vnd.openxmlformats-package.relationships+xml"/>
  <Override PartName="/ppt/slides/_rels/slide60.xml.rels" ContentType="application/vnd.openxmlformats-package.relationships+xml"/>
  <Override PartName="/ppt/slides/_rels/slide179.xml.rels" ContentType="application/vnd.openxmlformats-package.relationships+xml"/>
  <Override PartName="/ppt/slides/_rels/slide231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239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0.xml.rels" ContentType="application/vnd.openxmlformats-package.relationships+xml"/>
  <Override PartName="/ppt/slides/_rels/slide21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23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57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227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228.xml" ContentType="application/vnd.openxmlformats-officedocument.presentationml.slide+xml"/>
  <Override PartName="/ppt/slides/slide20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206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210.xml" ContentType="application/vnd.openxmlformats-officedocument.presentationml.slide+xml"/>
  <Override PartName="/ppt/slides/slide230.xml" ContentType="application/vnd.openxmlformats-officedocument.presentationml.slide+xml"/>
  <Override PartName="/ppt/slides/slide136.xml" ContentType="application/vnd.openxmlformats-officedocument.presentationml.slide+xml"/>
  <Override PartName="/ppt/slides/slide229.xml" ContentType="application/vnd.openxmlformats-officedocument.presentationml.slide+xml"/>
  <Override PartName="/ppt/slides/slide146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231.xml" ContentType="application/vnd.openxmlformats-officedocument.presentationml.slide+xml"/>
  <Override PartName="/ppt/slides/slide137.xml" ContentType="application/vnd.openxmlformats-officedocument.presentationml.slide+xml"/>
  <Override PartName="/ppt/slides/slide147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232.xml" ContentType="application/vnd.openxmlformats-officedocument.presentationml.slide+xml"/>
  <Override PartName="/ppt/slides/slide138.xml" ContentType="application/vnd.openxmlformats-officedocument.presentationml.slide+xml"/>
  <Override PartName="/ppt/slides/slide148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233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234.xml" ContentType="application/vnd.openxmlformats-officedocument.presentationml.slide+xml"/>
  <Override PartName="/ppt/slides/slide41.xml" ContentType="application/vnd.openxmlformats-officedocument.presentationml.slide+xml"/>
  <Override PartName="/ppt/slides/slide235.xml" ContentType="application/vnd.openxmlformats-officedocument.presentationml.slide+xml"/>
  <Override PartName="/ppt/slides/slide42.xml" ContentType="application/vnd.openxmlformats-officedocument.presentationml.slide+xml"/>
  <Override PartName="/ppt/slides/slide236.xml" ContentType="application/vnd.openxmlformats-officedocument.presentationml.slide+xml"/>
  <Override PartName="/ppt/slides/slide43.xml" ContentType="application/vnd.openxmlformats-officedocument.presentationml.slide+xml"/>
  <Override PartName="/ppt/slides/slide198.xml" ContentType="application/vnd.openxmlformats-officedocument.presentationml.slide+xml"/>
  <Override PartName="/ppt/slides/slide200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238.xml" ContentType="application/vnd.openxmlformats-officedocument.presentationml.slide+xml"/>
  <Override PartName="/ppt/slides/slide202.xml" ContentType="application/vnd.openxmlformats-officedocument.presentationml.slide+xml"/>
  <Override PartName="/ppt/slides/slide239.xml" ContentType="application/vnd.openxmlformats-officedocument.presentationml.slide+xml"/>
  <Override PartName="/ppt/slides/slide226.xml" ContentType="application/vnd.openxmlformats-officedocument.presentationml.slide+xml"/>
  <Override PartName="/ppt/slides/slide33.xml" ContentType="application/vnd.openxmlformats-officedocument.presentationml.slide+xml"/>
  <Override PartName="/ppt/slides/slide225.xml" ContentType="application/vnd.openxmlformats-officedocument.presentationml.slide+xml"/>
  <Override PartName="/ppt/slides/slide32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23.xml" ContentType="application/vnd.openxmlformats-officedocument.presentationml.slide+xml"/>
  <Override PartName="/ppt/slides/slide197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222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221.xml" ContentType="application/vnd.openxmlformats-officedocument.presentationml.slide+xml"/>
  <Override PartName="/ppt/slides/slide219.xml" ContentType="application/vnd.openxmlformats-officedocument.presentationml.slide+xml"/>
  <Override PartName="/ppt/slides/slide220.xml" ContentType="application/vnd.openxmlformats-officedocument.presentationml.slide+xml"/>
  <Override PartName="/ppt/slides/slide216.xml" ContentType="application/vnd.openxmlformats-officedocument.presentationml.slide+xml"/>
  <Override PartName="/ppt/slides/slide215.xml" ContentType="application/vnd.openxmlformats-officedocument.presentationml.slide+xml"/>
  <Override PartName="/ppt/slides/slide214.xml" ContentType="application/vnd.openxmlformats-officedocument.presentationml.slide+xml"/>
  <Override PartName="/ppt/slides/slide213.xml" ContentType="application/vnd.openxmlformats-officedocument.presentationml.slide+xml"/>
  <Override PartName="/ppt/slides/slide212.xml" ContentType="application/vnd.openxmlformats-officedocument.presentationml.slide+xml"/>
  <Override PartName="/ppt/slides/slide211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  <p:sldId id="485" r:id="rId232"/>
    <p:sldId id="486" r:id="rId233"/>
    <p:sldId id="487" r:id="rId234"/>
    <p:sldId id="488" r:id="rId235"/>
    <p:sldId id="489" r:id="rId236"/>
    <p:sldId id="490" r:id="rId237"/>
    <p:sldId id="491" r:id="rId238"/>
    <p:sldId id="492" r:id="rId239"/>
    <p:sldId id="493" r:id="rId240"/>
    <p:sldId id="494" r:id="rId241"/>
    <p:sldId id="495" r:id="rId242"/>
    <p:sldId id="496" r:id="rId243"/>
    <p:sldId id="497" r:id="rId244"/>
    <p:sldId id="498" r:id="rId2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slide" Target="slides/slide230.xml"/><Relationship Id="rId233" Type="http://schemas.openxmlformats.org/officeDocument/2006/relationships/slide" Target="slides/slide231.xml"/><Relationship Id="rId234" Type="http://schemas.openxmlformats.org/officeDocument/2006/relationships/slide" Target="slides/slide232.xml"/><Relationship Id="rId235" Type="http://schemas.openxmlformats.org/officeDocument/2006/relationships/slide" Target="slides/slide233.xml"/><Relationship Id="rId236" Type="http://schemas.openxmlformats.org/officeDocument/2006/relationships/slide" Target="slides/slide234.xml"/><Relationship Id="rId237" Type="http://schemas.openxmlformats.org/officeDocument/2006/relationships/slide" Target="slides/slide235.xml"/><Relationship Id="rId238" Type="http://schemas.openxmlformats.org/officeDocument/2006/relationships/slide" Target="slides/slide236.xml"/><Relationship Id="rId239" Type="http://schemas.openxmlformats.org/officeDocument/2006/relationships/slide" Target="slides/slide237.xml"/><Relationship Id="rId240" Type="http://schemas.openxmlformats.org/officeDocument/2006/relationships/slide" Target="slides/slide238.xml"/><Relationship Id="rId241" Type="http://schemas.openxmlformats.org/officeDocument/2006/relationships/slide" Target="slides/slide239.xml"/><Relationship Id="rId242" Type="http://schemas.openxmlformats.org/officeDocument/2006/relationships/slide" Target="slides/slide240.xml"/><Relationship Id="rId243" Type="http://schemas.openxmlformats.org/officeDocument/2006/relationships/slide" Target="slides/slide241.xml"/><Relationship Id="rId244" Type="http://schemas.openxmlformats.org/officeDocument/2006/relationships/slide" Target="slides/slide242.xml"/><Relationship Id="rId245" Type="http://schemas.openxmlformats.org/officeDocument/2006/relationships/slide" Target="slides/slide243.xml"/><Relationship Id="rId2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67E-F7E0-410C-8636-EBB24BF8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20F2-FBB3-408A-B833-5725EB64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3A6-38E5-4218-8582-B82BB314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A9B-91E8-44E0-9732-B361BD5F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563-F0D6-402A-ABCB-88BF6AD3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355-3F52-434A-9E0E-FD5E2C16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E58E-0CA7-4501-96FF-993D1961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461D-1284-47D4-97FD-08F5C510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CF98-F3AD-4418-9E57-254E71A4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8886-85BE-4D8D-8660-C7CF35DD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302-170E-43F3-8E13-B2D54123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437-FD70-4E00-AED9-76F85552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22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P22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P22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P22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P22 Typewri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P22 Typewri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P22 Typewri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22 Typewriter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22 Typewriter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22 Typewriter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22 Typewriter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22 Typewrite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B3DF-A866-4C20-9C1E-E1C1414A8ADA}" type="slidenum">
              <a:rPr b="0" lang="en-US" sz="1400" spc="-1" strike="noStrike">
                <a:solidFill>
                  <a:srgbClr val="000000"/>
                </a:solidFill>
                <a:latin typeface="P22 Typewrite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57200"/>
            <a:ext cx="7772400" cy="11998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txBody>
          <a:bodyPr lIns="118440" rIns="11844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22 Typewriter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7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Donaldson v. Becket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free cult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bor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819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3. Free societies enable the future by limiting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524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4. Ours is less and less a free society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/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differen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00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regulated creativit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00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regulated creativit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aw: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5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7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Donaldson v. Becket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free cult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bor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8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17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8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448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publishing” to “copying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opies” to “derivative works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4 years” to “life+70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echnology: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opaque creativit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ontrolling 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857240" y="0"/>
            <a:ext cx="5229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7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Donaldson v. Becket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 cult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bor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58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0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809720" y="0"/>
            <a:ext cx="5200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91520" cy="39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057400" y="76320"/>
            <a:ext cx="5114880" cy="67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2595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aw + technology: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aw regulates “copies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29718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22 Typewriter"/>
              </a:rPr>
              <a:t>uses</a:t>
            </a:r>
            <a:endParaRPr b="0" lang="en-US" sz="5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7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Donaldson v. Becket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</a:t>
            </a:r>
            <a:r>
              <a:rPr b="0" lang="en-US" sz="4400" spc="-1" strike="noStrike">
                <a:solidFill>
                  <a:srgbClr val="ef1f1d"/>
                </a:solidFill>
                <a:latin typeface="P22 Typewriter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ulture</a:t>
            </a:r>
            <a:br>
              <a:rPr sz="4400"/>
            </a:br>
            <a:r>
              <a:rPr b="0" lang="en-US" sz="4400" spc="-1" strike="noStrike">
                <a:solidFill>
                  <a:srgbClr val="ef1f1d"/>
                </a:solidFill>
                <a:latin typeface="P22 Typewriter"/>
              </a:rPr>
              <a:t>bor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39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0" name=""/>
          <p:cNvSpPr/>
          <p:nvPr/>
        </p:nvSpPr>
        <p:spPr>
          <a:xfrm>
            <a:off x="1752480" y="227016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2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227016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4" name=""/>
          <p:cNvSpPr/>
          <p:nvPr/>
        </p:nvSpPr>
        <p:spPr>
          <a:xfrm>
            <a:off x="5334120" y="227016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give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6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7" name=""/>
          <p:cNvSpPr/>
          <p:nvPr/>
        </p:nvSpPr>
        <p:spPr>
          <a:xfrm>
            <a:off x="1752480" y="227016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8" name=""/>
          <p:cNvSpPr/>
          <p:nvPr/>
        </p:nvSpPr>
        <p:spPr>
          <a:xfrm>
            <a:off x="1676520" y="447984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sell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9" name=""/>
          <p:cNvSpPr/>
          <p:nvPr/>
        </p:nvSpPr>
        <p:spPr>
          <a:xfrm>
            <a:off x="5334120" y="227016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give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1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2" name=""/>
          <p:cNvSpPr/>
          <p:nvPr/>
        </p:nvSpPr>
        <p:spPr>
          <a:xfrm>
            <a:off x="1752480" y="227016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3" name=""/>
          <p:cNvSpPr/>
          <p:nvPr/>
        </p:nvSpPr>
        <p:spPr>
          <a:xfrm>
            <a:off x="1676520" y="447984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sell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227016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give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5" name=""/>
          <p:cNvSpPr/>
          <p:nvPr/>
        </p:nvSpPr>
        <p:spPr>
          <a:xfrm>
            <a:off x="5257800" y="447984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sleep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2666880"/>
            <a:ext cx="1676160" cy="1524240"/>
          </a:xfrm>
          <a:prstGeom prst="ellipse">
            <a:avLst/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8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9" name=""/>
          <p:cNvSpPr/>
          <p:nvPr/>
        </p:nvSpPr>
        <p:spPr>
          <a:xfrm>
            <a:off x="4191120" y="284940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7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1" name=""/>
          <p:cNvSpPr/>
          <p:nvPr/>
        </p:nvSpPr>
        <p:spPr>
          <a:xfrm>
            <a:off x="3733920" y="2666880"/>
            <a:ext cx="1676160" cy="1524240"/>
          </a:xfrm>
          <a:prstGeom prst="ellipse">
            <a:avLst/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2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3" name=""/>
          <p:cNvSpPr/>
          <p:nvPr/>
        </p:nvSpPr>
        <p:spPr>
          <a:xfrm>
            <a:off x="4191120" y="284940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7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3308400"/>
            <a:ext cx="2965320" cy="642600"/>
          </a:xfrm>
          <a:prstGeom prst="borderCallout1">
            <a:avLst>
              <a:gd name="adj1" fmla="val 23784"/>
              <a:gd name="adj2" fmla="val -2539"/>
              <a:gd name="adj3" fmla="val 833"/>
              <a:gd name="adj4" fmla="val -25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publish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6" name=""/>
          <p:cNvSpPr/>
          <p:nvPr/>
        </p:nvSpPr>
        <p:spPr>
          <a:xfrm>
            <a:off x="3733920" y="2666880"/>
            <a:ext cx="1676160" cy="1524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7" name=""/>
          <p:cNvSpPr/>
          <p:nvPr/>
        </p:nvSpPr>
        <p:spPr>
          <a:xfrm>
            <a:off x="3809880" y="2743200"/>
            <a:ext cx="1524240" cy="1371600"/>
          </a:xfrm>
          <a:prstGeom prst="ellipse">
            <a:avLst/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284940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7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1" name=""/>
          <p:cNvSpPr/>
          <p:nvPr/>
        </p:nvSpPr>
        <p:spPr>
          <a:xfrm>
            <a:off x="3733920" y="2666880"/>
            <a:ext cx="1676160" cy="1524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2" name=""/>
          <p:cNvSpPr/>
          <p:nvPr/>
        </p:nvSpPr>
        <p:spPr>
          <a:xfrm>
            <a:off x="3809880" y="2743200"/>
            <a:ext cx="1524240" cy="1371600"/>
          </a:xfrm>
          <a:prstGeom prst="ellipse">
            <a:avLst/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4" name=""/>
          <p:cNvSpPr/>
          <p:nvPr/>
        </p:nvSpPr>
        <p:spPr>
          <a:xfrm>
            <a:off x="4191120" y="284940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7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5" name=""/>
          <p:cNvSpPr/>
          <p:nvPr/>
        </p:nvSpPr>
        <p:spPr>
          <a:xfrm>
            <a:off x="3009960" y="5162400"/>
            <a:ext cx="2933640" cy="52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1" y="4670"/>
                </a:moveTo>
                <a:lnTo>
                  <a:pt x="22313" y="4670"/>
                </a:lnTo>
                <a:lnTo>
                  <a:pt x="22313" y="-29708"/>
                </a:lnTo>
                <a:lnTo>
                  <a:pt x="16562" y="-6524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22 Typewriter"/>
              </a:rPr>
              <a:t>fair use</a:t>
            </a:r>
            <a:endParaRPr b="0" lang="en-US" sz="28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2666880"/>
            <a:ext cx="1676160" cy="1524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8" name=""/>
          <p:cNvSpPr/>
          <p:nvPr/>
        </p:nvSpPr>
        <p:spPr>
          <a:xfrm>
            <a:off x="3809880" y="2743200"/>
            <a:ext cx="1524240" cy="1371600"/>
          </a:xfrm>
          <a:prstGeom prst="ellipse">
            <a:avLst/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9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80" name=""/>
          <p:cNvSpPr/>
          <p:nvPr/>
        </p:nvSpPr>
        <p:spPr>
          <a:xfrm>
            <a:off x="4191120" y="284940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7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81" name=""/>
          <p:cNvSpPr/>
          <p:nvPr/>
        </p:nvSpPr>
        <p:spPr>
          <a:xfrm>
            <a:off x="3009960" y="5162400"/>
            <a:ext cx="2933640" cy="52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1" y="4670"/>
                </a:moveTo>
                <a:lnTo>
                  <a:pt x="22313" y="4670"/>
                </a:lnTo>
                <a:lnTo>
                  <a:pt x="22313" y="-29708"/>
                </a:lnTo>
                <a:lnTo>
                  <a:pt x="16562" y="-6524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22 Typewriter"/>
              </a:rPr>
              <a:t>quote</a:t>
            </a:r>
            <a:endParaRPr b="0" lang="en-US" sz="28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22 Typewriter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tatute of An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limited te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un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un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un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fair use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un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fair use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3429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enter the net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3429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22 Typewriter"/>
              </a:rPr>
              <a:t>every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P22 Typewriter"/>
              </a:rPr>
              <a:t>acts a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P22 Typewriter"/>
              </a:rPr>
              <a:t>copy</a:t>
            </a:r>
            <a:endParaRPr b="0" lang="en-US" sz="6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3429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22 Typewriter"/>
              </a:rPr>
              <a:t>every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P22 Typewriter"/>
              </a:rPr>
              <a:t>act’s a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P22 Typewriter"/>
              </a:rPr>
              <a:t>copy</a:t>
            </a:r>
            <a:endParaRPr b="0" lang="en-US" sz="6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3429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22 Typewriter"/>
              </a:rPr>
              <a:t>every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P22 Typewriter"/>
              </a:rPr>
              <a:t>act’s a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P22 Typewriter"/>
              </a:rPr>
              <a:t>copy</a:t>
            </a:r>
            <a:endParaRPr b="0" lang="en-US" sz="6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1" name=""/>
          <p:cNvSpPr/>
          <p:nvPr/>
        </p:nvSpPr>
        <p:spPr>
          <a:xfrm>
            <a:off x="2514600" y="27432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unregulated 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02888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3" name=""/>
          <p:cNvSpPr/>
          <p:nvPr/>
        </p:nvSpPr>
        <p:spPr>
          <a:xfrm>
            <a:off x="3772080" y="2666880"/>
            <a:ext cx="1676160" cy="1524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762120"/>
            <a:ext cx="5790960" cy="5333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5" name=""/>
          <p:cNvSpPr/>
          <p:nvPr/>
        </p:nvSpPr>
        <p:spPr>
          <a:xfrm>
            <a:off x="1828800" y="838080"/>
            <a:ext cx="5486400" cy="5181840"/>
          </a:xfrm>
          <a:prstGeom prst="ellipse">
            <a:avLst/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6" name=""/>
          <p:cNvSpPr/>
          <p:nvPr/>
        </p:nvSpPr>
        <p:spPr>
          <a:xfrm>
            <a:off x="2362320" y="30160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22 Typewriter"/>
              </a:rPr>
              <a:t>regulated</a:t>
            </a:r>
            <a:endParaRPr b="0" lang="en-US" sz="48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1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tatute of An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limited te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02888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8" name=""/>
          <p:cNvSpPr/>
          <p:nvPr/>
        </p:nvSpPr>
        <p:spPr>
          <a:xfrm>
            <a:off x="3772080" y="2666880"/>
            <a:ext cx="1676160" cy="1524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9" name=""/>
          <p:cNvSpPr/>
          <p:nvPr/>
        </p:nvSpPr>
        <p:spPr>
          <a:xfrm>
            <a:off x="1676520" y="762120"/>
            <a:ext cx="5790960" cy="5333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838080"/>
            <a:ext cx="5486400" cy="5181840"/>
          </a:xfrm>
          <a:prstGeom prst="ellipse">
            <a:avLst/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281952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7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un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fair use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2895480"/>
            <a:ext cx="4800600" cy="0"/>
          </a:xfrm>
          <a:prstGeom prst="line">
            <a:avLst/>
          </a:prstGeom>
          <a:ln w="7632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del&gt;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fair use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4914720" cy="553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aibo01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592960" cy="419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2514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http://aibopet.com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teach your Aibo jazz”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838080" y="793800"/>
            <a:ext cx="731520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[Y]our site contains information providing the means to circumvent AIBO-ware's copy protection protocol constituting a violation of the anti-circumvention provisions of the </a:t>
            </a:r>
            <a:r>
              <a:rPr b="0" lang="en-US" sz="3600" spc="-1" strike="noStrike">
                <a:solidFill>
                  <a:srgbClr val="ff0c14"/>
                </a:solidFill>
                <a:latin typeface="P22 Typewriter"/>
              </a:rPr>
              <a:t>Digital Millennium Copyright Act</a:t>
            </a: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.”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184480" y="1752480"/>
            <a:ext cx="429264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184480" y="1752480"/>
            <a:ext cx="4292640" cy="32194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523880" y="457200"/>
            <a:ext cx="5639040" cy="5791320"/>
          </a:xfrm>
          <a:prstGeom prst="noSmoking">
            <a:avLst>
              <a:gd name="adj" fmla="val 12500"/>
            </a:avLst>
          </a:prstGeom>
          <a:solidFill>
            <a:srgbClr val="ff0c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un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fair use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27" name=""/>
          <p:cNvSpPr/>
          <p:nvPr/>
        </p:nvSpPr>
        <p:spPr>
          <a:xfrm>
            <a:off x="2171880" y="2895480"/>
            <a:ext cx="4800600" cy="0"/>
          </a:xfrm>
          <a:prstGeom prst="line">
            <a:avLst/>
          </a:prstGeom>
          <a:ln w="7632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28" name=""/>
          <p:cNvSpPr/>
          <p:nvPr/>
        </p:nvSpPr>
        <p:spPr>
          <a:xfrm>
            <a:off x="2209680" y="3505320"/>
            <a:ext cx="4800600" cy="0"/>
          </a:xfrm>
          <a:prstGeom prst="line">
            <a:avLst/>
          </a:prstGeom>
          <a:ln w="7632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1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tatute of Ann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imited te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0" algn="ctr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14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ontrolled creativit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never more controlled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e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cop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concentratio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erm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cop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concentratio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erm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cop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oncentratio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nev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fe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nev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e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nev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ew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f1f1d"/>
                </a:solidFill>
                <a:latin typeface="P22 Typewriter"/>
              </a:rPr>
              <a:t>1773</a:t>
            </a:r>
            <a:endParaRPr b="0" lang="en-US" sz="6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1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tatute of Ann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imited term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f1f1d"/>
                </a:solidFill>
                <a:latin typeface="P22 Typewriter"/>
              </a:rPr>
              <a:t>control</a:t>
            </a:r>
            <a:endParaRPr b="0" lang="en-US" sz="6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reativity and innovation always builds on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. The past always tries to control the creativity that builds on i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819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3. Free societies enable the future by limiting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524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4. Ours is less and less a free society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/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gnu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40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cottish publis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reprint classic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ransparent creativit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 sharing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ommon bas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209680"/>
          </a:xfrm>
          <a:prstGeom prst="rect">
            <a:avLst/>
          </a:prstGeom>
          <a:noFill/>
          <a:ln w="7632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reat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ike it’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proprietar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v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P22 Typewriter"/>
              </a:rPr>
              <a:t>proprietary</a:t>
            </a:r>
            <a:br>
              <a:rPr sz="4400"/>
            </a:br>
            <a:r>
              <a:rPr b="0" lang="en-US" sz="4400" spc="-1" strike="noStrike">
                <a:solidFill>
                  <a:srgbClr val="808080"/>
                </a:solidFill>
                <a:latin typeface="P22 Typewriter"/>
              </a:rPr>
              <a:t>v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P22 Typewriter"/>
              </a:rPr>
              <a:t>fre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1f1d"/>
                </a:solidFill>
                <a:latin typeface="P22 Typewriter"/>
              </a:rPr>
              <a:t>for now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reativity and innovation always builds on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. The past always tries to control the creativity that builds on i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40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cottish publis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reprint classic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819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3. Free societies enable the future by limiting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524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4. Ours is less and less a free society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/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 code threaten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hreats to free cod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item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w patent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Mr. Gat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 on sw patents: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If people had understood how patents would be granted when most of today’s ideas were invented and had taken out patents, the industry would be at a complete stand-still today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he solution . . . is patenting as much as we can. . . . A future start-up with no patents of its own will be forced to pay whatever price the giants choose to impose. That price might be high: Established companies have an interest in excluding future competitors.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22 Typewriter"/>
              </a:rPr>
              <a:t>&lt;free culture&gt;</a:t>
            </a:r>
            <a:endParaRPr b="0" lang="en-US" sz="5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OSC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July 24, 2002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40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cottish publisher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reprint classic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he solution . . . is patenting as much as we can. . . . A future start-up with no patents of its own will be forced to pay whatever price the giants choose to impose. That price might be high: </a:t>
            </a:r>
            <a:r>
              <a:rPr b="0" lang="en-US" sz="3600" spc="-1" strike="noStrike">
                <a:solidFill>
                  <a:srgbClr val="ef1f1d"/>
                </a:solidFill>
                <a:latin typeface="P22 Typewriter"/>
              </a:rPr>
              <a:t>Established companies have an interest in excluding future competitors.</a:t>
            </a: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1f1d"/>
                </a:solidFill>
                <a:latin typeface="P22 Typewriter"/>
              </a:rPr>
              <a:t>Established companies have an interest in excluding future competitors.</a:t>
            </a: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1f1d"/>
                </a:solidFill>
                <a:latin typeface="P22 Typewriter"/>
              </a:rPr>
              <a:t>4 years</a:t>
            </a: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iny changes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im changes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q. todd changes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apologists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what have you done?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excluding future competitors”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defensive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ondon publisher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“copyright is forever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offensive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what have you done?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item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copyright wars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homeric tragedy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36248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$25,000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insane rul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whole world</a:t>
            </a: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insane rule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for the whole world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broadcast flag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mandated fritz chips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ondon publisher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copyright is forever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police state in every computer”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digital vigilantes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a terrorist war”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for what? 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o stop the harm”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he harm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5x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-5%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he harm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 5x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-5%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he harm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 5x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-5%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what have you done?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[Sonny Bono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forever minus a day”]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reativity and innovation always builds on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. The past always tries to control the creativity that builds on i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819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3. Free societies enable the future by limiting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524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4. Ours is less and less a free society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/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JC Watt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If you’re explaining,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you’re losing.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JC Watts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what have you done?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ondon publisher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copyright is forever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Bouch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ann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Hank Perritt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eff.org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do something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1723680"/>
            <a:ext cx="7772400" cy="3485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118440" rIns="11844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publishe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old patentees and monopolizers in the trade of bookselling, men who do not labour in an honest profession to learning is indetted.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ommon law copyright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6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Millar v. Tayl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publishers prevail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69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Millar v. Tayl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publishers prevail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69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Millar v. Taylo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publishers prevail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7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Millar reversed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7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Millar reversed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hakespeare fre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d cultur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reativity and innovation always builds on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. The past always tries to control the creativity that builds on i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819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3. Free societies enable the future by limiting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524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4. Ours is less and less a free society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reativity and innovation always builds on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/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unregulated creativ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“printing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free derivat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nregulated creativ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“printing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free derivat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nregulated creativit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printing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free derivat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nregulated creativit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printing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 derivat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nregulated creativit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printing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 derivativ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free co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transparent technolog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 co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transparent technolog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 cod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ransparent technolog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. The past always tries to control the creativity that builds on i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P22 Typewriter"/>
              </a:rPr>
              <a:t>control</a:t>
            </a:r>
            <a:endParaRPr b="0" lang="en-US" sz="7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P22 Typewriter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no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jus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he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92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Walt Disne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teamboat Willi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teamboat Bill., Jr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13000" y="1622520"/>
            <a:ext cx="271620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928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Walt Disne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teamboat Willi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teamboat Bill., Jr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steamboa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86040" cy="276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928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Walt Disne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teamboat Willi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teamboat Bill., Jr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57400" y="1461960"/>
            <a:ext cx="5029200" cy="39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928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Walt Disne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teamboat Willi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teamboat Bill, Jr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819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3. Free societies enable the future by limiting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always parroting the feature length mainstream films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800600" y="58039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66680" y="39625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,000 Leagues (195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00600" y="4952880"/>
            <a:ext cx="335268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nny Appleseed (1955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66680" y="39625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,000 Leagues (195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0060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ing Beauty (195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y Hollow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800600" y="14479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ul Bunyon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800600" y="4952880"/>
            <a:ext cx="335268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nny Appleseed (1955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66680" y="39625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,000 Leagues (195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066680" y="5867280"/>
            <a:ext cx="33530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ungle Book (1967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800600" y="39625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idnapped (196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80060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ing Beauty (195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y Hollow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800600" y="14479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ul Bunyon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00600" y="4952880"/>
            <a:ext cx="335268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nny Appleseed (1955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66680" y="39625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,000 Leagues (195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066680" y="45720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ittle Mermaid (198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066680" y="5867280"/>
            <a:ext cx="33530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ungle Book (1967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800600" y="39625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idnapped (196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80060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ing Beauty (195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9072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y Hollow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800600" y="14479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ul Bunyon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800600" y="4952880"/>
            <a:ext cx="335268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nny Appleseed (1955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66680" y="39625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,000 Leagues (195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066680" y="4952880"/>
            <a:ext cx="33530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unchback (1996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990720" y="14605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auty and the Beast (199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66680" y="45720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ittle Mermaid (198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66680" y="5867280"/>
            <a:ext cx="33530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ungle Book (1967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800600" y="39625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idnapped (196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80060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ing Beauty (195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9072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y Hollow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800600" y="14479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ul Bunyon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800600" y="4952880"/>
            <a:ext cx="335268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nny Appleseed (1955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66680" y="39625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,000 Leagues (195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524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4. Ours is less and less a free society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066680" y="31687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lan (199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66680" y="4952880"/>
            <a:ext cx="33530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unchback (1996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990720" y="14605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auty and the Beast (199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66680" y="45720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ittle Mermaid (198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66680" y="5867280"/>
            <a:ext cx="33530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ungle Book (1967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800600" y="39625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idnapped (196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80060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ing Beauty (195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y Hollow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800600" y="14479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ul Bunyon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800600" y="4952880"/>
            <a:ext cx="335268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nny Appleseed (1955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066680" y="39625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,000 Leagues (195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63920" y="1792440"/>
            <a:ext cx="4016160" cy="32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237280" cy="64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092320" y="609480"/>
            <a:ext cx="49593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ommon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awyer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awyer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1752480"/>
            <a:ext cx="3276360" cy="3276720"/>
          </a:xfrm>
          <a:prstGeom prst="noSmoking">
            <a:avLst>
              <a:gd name="adj" fmla="val 12500"/>
            </a:avLst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imited Times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fourteen years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maybe x2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o 4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831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/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56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09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59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62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65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67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68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69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6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70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7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71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8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72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7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74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7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76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9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98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onny Bono Copyright Term Extension Act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aka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Mickey Mouse Protection Act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No one ca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do to Disney, </a:t>
            </a: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Inc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what </a:t>
            </a: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Walt</a:t>
            </a: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 Disney did to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the Brothers Grimm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reativity and innovation always builds on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. The past always tries to control the creativity that builds on i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2:09:35Z</dcterms:created>
  <dc:creator>Lawrence Lessig</dc:creator>
  <dc:description/>
  <dc:language>en-US</dc:language>
  <cp:lastModifiedBy>Matthew Haughey</cp:lastModifiedBy>
  <cp:lastPrinted>2002-08-05T21:59:45Z</cp:lastPrinted>
  <dcterms:modified xsi:type="dcterms:W3CDTF">2002-08-06T02:22:48Z</dcterms:modified>
  <cp:revision>107</cp:revision>
  <dc:subject/>
  <dc:title>PowerPoint Presentation</dc:title>
</cp:coreProperties>
</file>